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559675" cy="10691813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C7F-E4F4-4434-BF37-724BBE0B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284-A810-4FCD-9DF5-8FB7BE18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220-37CE-4F5D-8814-CA0F2032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C0B-BCD8-4B25-83E6-B0F05D50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2DF-F49E-4A90-916E-8BA858EA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903-5F7B-48F4-886D-6CBB1AA2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136-0CEA-4AC8-8E55-04E4333B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DA1-E90A-4514-A039-08FEF429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760"/>
            <a:ext cx="680544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FD2-A2A4-472F-A5AF-2AAC8832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8BC-E7AA-4C7C-8DF9-28D41088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CC5-29AD-4CE8-9C28-05F3B4D0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5D6-3A1B-4A1C-A35C-F16A2C89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3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37640"/>
            <a:ext cx="2395440" cy="743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3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8BA9-D42A-459F-9C83-0F6D55EA6C0D}" type="slidenum">
              <a:rPr b="0" lang="de-DE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75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75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magine 1" descr=""/>
          <p:cNvPicPr/>
          <p:nvPr/>
        </p:nvPicPr>
        <p:blipFill>
          <a:blip r:embed="rId1"/>
          <a:stretch/>
        </p:blipFill>
        <p:spPr>
          <a:xfrm>
            <a:off x="0" y="233280"/>
            <a:ext cx="7561440" cy="5670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324000" y="6432480"/>
            <a:ext cx="691344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asdotto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«Trans Adriatic Pipeline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a Te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escrizione A.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c. n. OPL00-C10713-300-B-TVN-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v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uglio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0" y="0"/>
            <a:ext cx="75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75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96720" y="7147080"/>
            <a:ext cx="69836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1200" spc="-1" strike="noStrike">
                <a:solidFill>
                  <a:srgbClr val="7f7f7f"/>
                </a:solidFill>
                <a:latin typeface="Arial"/>
              </a:rPr>
              <a:t>Trans Adriatic Pipeline AG Italia - Sede Secon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1200" spc="-1" strike="noStrike">
                <a:solidFill>
                  <a:srgbClr val="7f7f7f"/>
                </a:solidFill>
                <a:latin typeface="Arial"/>
              </a:rPr>
              <a:t>Via IV Novembre, 149 - 00187 Roma,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1200" spc="-1" strike="noStrike">
                <a:solidFill>
                  <a:srgbClr val="7f7f7f"/>
                </a:solidFill>
                <a:latin typeface="Arial"/>
              </a:rPr>
              <a:t>Tel.: +39 06 69 76 5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1200" spc="-1" strike="noStrike">
                <a:solidFill>
                  <a:srgbClr val="7f7f7f"/>
                </a:solidFill>
                <a:latin typeface="Arial"/>
              </a:rPr>
              <a:t>Fax: +39 06 69 76 50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1200" spc="-1" strike="noStrike">
                <a:solidFill>
                  <a:srgbClr val="7f7f7f"/>
                </a:solidFill>
                <a:latin typeface="Arial"/>
              </a:rPr>
              <a:t>tapitalia@tap-a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1200" spc="-1" strike="noStrike">
                <a:solidFill>
                  <a:srgbClr val="7f7f7f"/>
                </a:solidFill>
                <a:latin typeface="Arial"/>
              </a:rPr>
              <a:t>www.tap-ag.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"/>
              </a:spcBef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"/>
              </a:spcBef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"/>
              </a:spcBef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"/>
              </a:spcBef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800" spc="-1" strike="noStrike">
                <a:solidFill>
                  <a:srgbClr val="7f7f7f"/>
                </a:solidFill>
                <a:latin typeface="Arial"/>
              </a:rPr>
              <a:t>Tutti i diritti di proprietà intellettuale relativi al presente documento sono riservati. La riproduzione, la diffusione o la messa a disposizione di terzi dei contenuti del presente documento sono vietate, se non sono preventivamente autorizzate da TAP AG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"/>
              </a:spcBef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800" spc="-1" strike="noStrike">
                <a:solidFill>
                  <a:srgbClr val="7f7f7f"/>
                </a:solidFill>
                <a:latin typeface="Arial"/>
              </a:rPr>
              <a:t>La versione aggiornata del documento è disponibile nel database del Progetto TAP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"/>
              </a:spcBef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0" y="162000"/>
            <a:ext cx="7561440" cy="64440"/>
            <a:chOff x="0" y="162000"/>
            <a:chExt cx="7561440" cy="64440"/>
          </a:xfrm>
        </p:grpSpPr>
        <p:sp>
          <p:nvSpPr>
            <p:cNvPr id="49" name="Freeform 3"/>
            <p:cNvSpPr/>
            <p:nvPr/>
          </p:nvSpPr>
          <p:spPr>
            <a:xfrm>
              <a:off x="0" y="162000"/>
              <a:ext cx="7561440" cy="64440"/>
            </a:xfrm>
            <a:custGeom>
              <a:avLst/>
              <a:gdLst>
                <a:gd name="textAreaLeft" fmla="*/ 0 w 7561440"/>
                <a:gd name="textAreaRight" fmla="*/ 7561800 w 75614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1867" h="2">
                  <a:moveTo>
                    <a:pt x="0" y="0"/>
                  </a:moveTo>
                  <a:lnTo>
                    <a:pt x="11867" y="0"/>
                  </a:lnTo>
                </a:path>
              </a:pathLst>
            </a:custGeom>
            <a:noFill/>
            <a:ln w="7308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2"/>
          <p:cNvGrpSpPr/>
          <p:nvPr/>
        </p:nvGrpSpPr>
        <p:grpSpPr>
          <a:xfrm>
            <a:off x="0" y="10495080"/>
            <a:ext cx="7561440" cy="64440"/>
            <a:chOff x="0" y="10495080"/>
            <a:chExt cx="7561440" cy="64440"/>
          </a:xfrm>
        </p:grpSpPr>
        <p:sp>
          <p:nvSpPr>
            <p:cNvPr id="51" name="Freeform 3"/>
            <p:cNvSpPr/>
            <p:nvPr/>
          </p:nvSpPr>
          <p:spPr>
            <a:xfrm>
              <a:off x="0" y="10495080"/>
              <a:ext cx="7561440" cy="64440"/>
            </a:xfrm>
            <a:custGeom>
              <a:avLst/>
              <a:gdLst>
                <a:gd name="textAreaLeft" fmla="*/ 0 w 7561440"/>
                <a:gd name="textAreaRight" fmla="*/ 7561800 w 75614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1867" h="2">
                  <a:moveTo>
                    <a:pt x="0" y="0"/>
                  </a:moveTo>
                  <a:lnTo>
                    <a:pt x="11867" y="0"/>
                  </a:lnTo>
                </a:path>
              </a:pathLst>
            </a:custGeom>
            <a:noFill/>
            <a:ln w="7308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8:18:52Z</dcterms:created>
  <dc:creator>A32873</dc:creator>
  <dc:description/>
  <dc:language>en-US</dc:language>
  <cp:lastModifiedBy>Peppoloni Pier Francesco</cp:lastModifiedBy>
  <cp:lastPrinted>2016-06-21T11:49:58Z</cp:lastPrinted>
  <dcterms:modified xsi:type="dcterms:W3CDTF">2016-07-20T07:13:58Z</dcterms:modified>
  <cp:revision>155</cp:revision>
  <dc:subject/>
  <dc:title>Folie 1</dc:title>
</cp:coreProperties>
</file>